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645-8086-48FF-B53D-5F0F664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728-81C9-4B69-B79F-F238106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B29-8992-48A3-9F9C-DFFEC20F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C5D-8605-461A-99A0-BADA5738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7877-7179-44B3-A29E-BD6F281E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9A68-A461-47FD-8FE8-4822305A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B9D0-A1C2-44B4-8BE7-680EFD7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4819-851E-4BB8-8E36-3C236DEF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D91-646E-489C-A416-B6A663A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4B7-91BE-40B4-8939-4176DEE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9B17-D395-4550-A6CF-FEEE2A7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AFD-3AA0-4A47-B408-F1CD80F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055C-6F72-4777-A128-7F65D9EC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034-6751-4330-96B8-DCECCFB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8EB3-86B6-49E1-9D7F-734938A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FE3-3627-4308-BFF2-984FD089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E2E-DDFC-415C-A357-4B0811C4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071-2960-41D9-9A90-A9DE841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C95-7A9D-4EFE-AE41-C1DEAD3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3FA-9C50-47A5-9238-8C08918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1C9-763B-4C32-A497-F7731FBC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D94-CE68-4241-B340-3582E87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283-2421-4E6C-A6E6-DBC7663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7B5-47B2-4DCD-BF0D-C17F1F8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806-64A9-475C-BDCD-648258547D1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4667-D627-4B32-9278-DEDB3214F5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3 &amp; 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discuss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sort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-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-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- skel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questions about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for patter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2504880" cy="24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3274920" y="2781360"/>
            <a:ext cx="2594160" cy="260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6310440" y="2781360"/>
            <a:ext cx="2509560" cy="2457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457200" y="5589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o people with …………………… have ……………………… 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n people with …………………….   …………………………….. 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your local area and identify good spots for your ongo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 to get outside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lo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lers, tape measures, metre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tl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per tow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3 and 4 content fit between the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s – life cycle of plants year 3, classification yea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ife cycle of flowering plan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evidence is there for the life cycle of a flowering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 of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fyin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lues can we use to identify or classify tr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18T11:23:13Z</dcterms:modified>
  <cp:revision>67</cp:revision>
  <dc:subject/>
  <dc:title>Science coordinators’ meeting 22nd September 2011</dc:title>
</cp:coreProperties>
</file>